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294-AD45-4CE7-89EC-1617BB3D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207-229A-46EF-A4BC-10287031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A1B-2EDD-48F8-B9E7-E82DBD12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B1E-79EE-4BF9-ACE2-9FA6DF54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26-2C1E-4B87-A006-3DAF9EE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FC9-2D81-4850-A453-813BC60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E9F-068B-4305-9935-03F26010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868-8D95-420B-A139-C8D73B9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BB7-C352-4831-B22C-74CBCC5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9F0-4FA0-4AD4-8771-7D2C937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4E2-AB09-4C06-8369-3DB34FA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DA0-BB79-4A72-911D-1DC3C56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7A6-BAB7-4E10-B24F-EDAF5CDAE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ew key rules to help you take better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My Documents\My Pictures\cuda_logo_med.TIF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ip #8- Stay Organ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685800" y="2133720"/>
          <a:ext cx="38098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doesn’t matter what you write down if you don’t keep it organized so you can study it! Keep your notes all in on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1- Don’t Always Copy Word for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228600" y="2971800"/>
          <a:ext cx="350532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35053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9000" y="19047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down important keywords and phrases, leaving out unimportant words. Make sure it makes sense and you got all the key ideas and example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2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Learn shorthand technique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hand is basically an easier way to write things down. For example, drawing a “+” symbol instead of writing “plus” or a “?” instead of “question.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027760" y="1981080"/>
          <a:ext cx="305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1981080"/>
                    <a:ext cx="305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Shorthand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914400" y="1981080"/>
          <a:ext cx="2770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2770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/ (wi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/o (withou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/c (beca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tc. (and so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: (reason f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+ (pl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.g. or i.e. or ex (for exampl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3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Ask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k questions if there is something you do not understand. If you still don’t understand, draw a question mark by your notes so that you know to go back and clarify it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5791320" y="1981080"/>
          <a:ext cx="312408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81080"/>
                    <a:ext cx="312408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4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cus on what is being said, don’t keep asking, “Is this important” or “Should I write this down.” It just distracts you. Write down all key ide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228600" y="1981080"/>
          <a:ext cx="366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366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5- Stop and Lis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you are not following what is being said, stop writing and just listen until you understand-then write it down adding your own clarific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648320" y="2712960"/>
          <a:ext cx="380988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12960"/>
                    <a:ext cx="380988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6-Learn Key Phra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685800" y="2743200"/>
          <a:ext cx="380988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380988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is is important because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In summary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most important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In conclusion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A key point is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...on the t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significance of this i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7- Be Aware of Key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ware of the words your teachers use to indicate that something is very import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teacher writes it down, you should write it d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952880" y="2362320"/>
          <a:ext cx="381024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362320"/>
                    <a:ext cx="38102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1:57:16Z</dcterms:created>
  <dc:creator>Samantha Murrell</dc:creator>
  <dc:description/>
  <dc:language>en-US</dc:language>
  <cp:lastModifiedBy>shmurray</cp:lastModifiedBy>
  <dcterms:modified xsi:type="dcterms:W3CDTF">2011-06-13T20:00:34Z</dcterms:modified>
  <cp:revision>2</cp:revision>
  <dc:subject/>
  <dc:title>Note Taking</dc:title>
</cp:coreProperties>
</file>